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DE1-A743-42BB-A1E5-1A7DF2F6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411-BEA0-400E-9749-2CC8507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6E1-0034-42D3-A265-08E97C2E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DD6-C00F-46CB-9D2A-E63BE88B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77D0-BEB3-4747-955C-00D4A039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9114-B2CE-4FE3-9505-727F651D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C115-7DEC-4B2C-AAEE-24131CEC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DF3F-02C1-415B-AB1A-7425688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4DFD-2C0D-4D83-9326-89EADC8A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6643-179E-4DC6-9ADE-54DE5A4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905B-2F6D-43BC-B098-990AD1A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634-85FC-46BB-B7E8-2BBCF3D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DA7-A076-4B70-AF81-FF4FE84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3CE-02A2-480D-BC30-CBBC224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EB7-8571-4EB9-AD2A-FC6A1F3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EC81-0187-4717-964F-16D91CE6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F0C-FDF7-4B8B-A5C4-2378435D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C36-C53B-412A-931E-6A1AC5F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CA7-C4DF-44BD-AD4E-947F30E9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830-C9FF-4647-8CD2-39BAA43E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B99-25AA-4182-81C3-8CC3EFDE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46A-B905-4F29-9B2A-F401DE0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2C3-FE4B-4C6F-AD77-CA5E9F3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891-D41D-40B4-89E0-875BFFC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742-6F2C-44E1-AB94-CBAD7C092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6B11-87EC-4E48-A808-CEC83C1A5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Interagency Forum on Earth Data Preservation/LifeCycle/Stewardship 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41907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anuary 8, 2009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ob Raski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ASA/Jet Propulsion Lab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mmon needs across agenc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higher priority / more funding for long-term preservation of Earth system science dat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outcom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pap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budget reques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man/Gordon Conference pla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on of advisory bod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reserving What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Multiple Preservation Levels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752480"/>
          <a:ext cx="7086600" cy="4498920"/>
        </p:xfrm>
        <a:graphic>
          <a:graphicData uri="http://schemas.openxmlformats.org/drawingml/2006/table">
            <a:tbl>
              <a:tblPr/>
              <a:tblGrid>
                <a:gridCol w="2286000"/>
                <a:gridCol w="480060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servation Strateg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iable storage media, fast c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EEE Stand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ucture/Format/A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type ontology, scientific form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 specif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ience ontolo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tory/con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acecraft/instrument, processing history, quality, workflow ontolog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7707240" y="2514600"/>
            <a:ext cx="143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c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8b34b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34b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3048120"/>
            <a:ext cx="0" cy="2361960"/>
          </a:xfrm>
          <a:prstGeom prst="line">
            <a:avLst/>
          </a:prstGeom>
          <a:ln w="76320">
            <a:solidFill>
              <a:srgbClr val="c70c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ique identifiers (UID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eserving Provena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mon naming conven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eserving Acces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Versioning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ifferent versions have different UI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upporting Reprocessing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urpos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Unique Object Identifie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niquely and unambiguously identify data no matter which copy a user ha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nd and access the data no matter where the data currently resides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acilitate management of data over time by a data cent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nsure that a copy is an exact replic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acilitate data citation in public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producibility of result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ttribution of due credi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otential UID Representa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SID 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ID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K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UI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R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Archival Servic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1 Deep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ite back up storage of a data se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data acces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2 Collection/Directory Level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data and collection level metadata availabl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clearinghouse servi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3 Data Set/Inventory Level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a complete data product suite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4 Data System Level Archive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data and the system to process on demand or custom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01:33Z</dcterms:created>
  <dc:creator>Rob Raskin</dc:creator>
  <dc:description/>
  <cp:keywords/>
  <dc:language>en-US</dc:language>
  <cp:lastModifiedBy>Rob Raskin</cp:lastModifiedBy>
  <dcterms:modified xsi:type="dcterms:W3CDTF">2009-01-08T20:40:47Z</dcterms:modified>
  <cp:revision>17</cp:revision>
  <dc:subject/>
  <dc:title>Data Preservation</dc:title>
</cp:coreProperties>
</file>